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5A54-BB27-40AC-AD40-EBFF2C299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B470-B1AC-471A-9AF9-093BDBEB5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852-90C3-4471-AAAD-495FE827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825-C97B-49A8-B12B-D6FD005B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79E-9C29-4E82-B270-1D99F480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8F3-A8D0-4B4C-AC06-91B247EF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FE82-A9E9-46D4-8EBD-3396AAA0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EBD-16CB-466D-8D2E-098EEE2E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96A6-1DA4-467B-9BB1-865B0B05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22BA-C05C-444C-8382-D35A0F4F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E16C-2E07-4AA1-8EC2-96352982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F8DE-40D6-4952-BF3B-A65B6F0B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A092-C19A-462C-9204-896563B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CB6-8DB2-4559-8C34-427B420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ADD9-B870-44B3-9BD2-50815CC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7A06-F247-441E-B495-02AB36D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C176-1710-4C35-96B8-BC8BDEEB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B15-E4E8-46F1-B778-1DC450B6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E74-B854-4FFF-B222-B14E2E40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EDE8-BC8C-4BB8-9159-4BD89010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592C-AE59-4A8A-8317-B7FAC1EE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6F10-3FDE-40BC-BAAA-0824995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C259-B73E-4A57-A403-0EDE71D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6712-E2BD-4726-B9FF-ADB9BE2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363-129B-407C-BD7C-6C30AA75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0222-1AB1-4D89-8771-D82E5EEC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16BD-2B9B-41FF-A8A5-5065F56D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0263-6DDE-4C51-B7E4-83379E04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ECD9-F647-465A-9D47-359014F8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D851-13D9-471A-8089-0D8CD93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1E36-98C3-4925-909E-276C33FF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57DA-D06E-4FAE-8F9A-AC718F59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9480-7C0B-4C4A-9F74-5AF69F94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36B9-4485-40C2-A3FB-A6C7346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D6B3-BC28-4505-888E-86AE9377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1CA-F77B-4053-B1D5-EA929319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758A-343E-4596-81F7-7CD05CC9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A15E-2559-47E8-B760-FDE838A7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25A3-D8D5-47A4-939D-8264C25C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D3B4-DCAE-4E8E-AB5D-BEFE5DB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2B76-7F28-433E-B5AE-C242342D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570AE-3A0D-4BDD-BA8B-9DE72F23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3B3A-7CC7-4589-B39C-8603504D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A8AF-989B-4A36-BE6B-91E31316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A774-BE06-412F-809A-269484A7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4A5C-B620-452D-912E-7B67636D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8FF-97BC-4CA6-91A7-CD94C89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214D-3A37-4F26-B640-27929E0C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00C91-5F17-404D-8FAD-77E8D68E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E82D-29FA-4655-A569-13852CF5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575C-A8D2-44DE-91BD-9BB6F89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9ABA1-001D-4F8B-BAE2-B01186C5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A06A-4FDA-4E2D-B9AF-9E78DA8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6579C-FC0B-460E-ADEF-7593D6F4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687D-58EC-4D42-8623-C3EC1CB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601C-0CFC-4C5A-9569-C5425CF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A297-2431-4BCF-BE41-CD9034F3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DC7-00D7-4864-9897-12BD0DB4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96E5-9A8D-48D1-AC00-66F0E33D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A11-1855-46FD-AD17-A065148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18D-82A1-4972-A1CC-990CC3E6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897-BEE4-41F8-85B0-3325FDF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DDF8-40E4-41A5-8A98-44EF9DCC4BD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ACA-A931-48C0-9CBC-4CB0E79C3E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D38C-DE6B-42B2-9333-5BD43913712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80D-E852-4743-866B-DEBF7747BC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B905-8CA1-43EC-B24F-E2A50F3E6A8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1DB7-F5F9-4346-9EA0-0804D155C6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ACA6-D53B-4757-B7C2-B9262DBF905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618-F4E9-474C-A708-EE878DB9D251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EE22-D280-44DC-8B4D-FFFA18B0B2A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A6D5-6297-48C1-B8CB-CDE14B9192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236520" y="1191960"/>
            <a:ext cx="5648400" cy="944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PLC Team Norms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907560" y="1658520"/>
            <a:ext cx="6512040" cy="12542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What are norms?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eam Norms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 PLCs norms represent protocols and commitments developed by each team to guide members in working togethe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Norms help team members clarify expectations regarding how they will work together to achieve their shared goal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 Strategy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nk of a past negative experience you have had serving on a team or committee and identify a specific behavior that prevented your group from being effectiv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3059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GATIVE EXPERIENCES – POSITIVE COMMIT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xample, whining or complaining, arriving late and leaving early, texting during meeting, being disengaged during the meetings, and so 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ach negative norm identified by members of your team, establish a positive commitment statement (a norm) your team should adopt that, if everyone adhered to it, would prevent the past negative experience from recurring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10 minute activity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ips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team establishes its own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stated as commitments to act in certain ways rather than as belief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reviewed at the beginning and end of each meeting until each team member internalizes them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ne norm should require the team to assess its effectiveness at least twice during each school year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s assessment should include a review of members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adherence to team norms and the need to add new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ss is more. A few key norms are better than a laundry list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Violation of norms should be addressed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S OF TEAM NORM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maintain a positive tone at our meeting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not complain about a problem unless we can offer a solu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begin and end our meetings on time and stay fully engaged throughout each meeting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contribute equally to the workload of this tea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listen respectfully and consider matters from another</a:t>
            </a:r>
            <a:r>
              <a:rPr b="0" i="1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s perspectiv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9:41:21Z</dcterms:created>
  <dc:creator>Authorized User</dc:creator>
  <dc:description/>
  <dc:language>en-US</dc:language>
  <cp:lastModifiedBy>Heather Davis Schmidt</cp:lastModifiedBy>
  <cp:lastPrinted>2011-08-22T20:34:20Z</cp:lastPrinted>
  <dcterms:modified xsi:type="dcterms:W3CDTF">2013-08-15T05:36:37Z</dcterms:modified>
  <cp:revision>5</cp:revision>
  <dc:subject/>
  <dc:title>PLC Team Norms</dc:title>
</cp:coreProperties>
</file>